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E5694-7194-4855-B03B-5ED416B00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63AB3-6A41-41E8-9C21-2D27EC20B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EAE0E-FE04-4D4E-91A2-7C64243F4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C576A-7A0A-4866-B541-B6135D3F8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F9539-B267-42B6-9A00-E1DE2ECE8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F832F-3BD3-4C4A-8F35-82C322A7F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8D0B7-5378-46CF-B84E-0AF9E24BE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A3779-85AC-480D-9C8D-80D627EB4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D3C5E-1327-4480-ABA6-0A6456D79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43F4D-FB38-4C73-A4F0-A00B543B7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EC84D-5FFD-4C24-85A6-F20C904C2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3F6C6-51FA-4C53-AFB7-A5E1C1A72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96112-4A17-40DA-81F4-14CC312EC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2B398-FE10-451A-A8A4-943039C97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A9880-6FDC-487B-BE4A-A61206076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8D0AB-9F69-4BA1-B193-46151EA1D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05B46-677E-403F-A342-4A77C51A4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E5E89-FBD9-4C6F-B59F-4051F8750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C6B22-13A0-45F7-B970-729A2BC72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07626-C38E-475E-A737-C0C25EE94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14050-2F9D-41CB-8652-53B90CBF2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2B945-F51C-4D5E-A1D9-1C5AD3F1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279BD-779C-4E5E-8FB3-B9B49DBB0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916FD-A904-483E-A911-45E5793E1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2582e"/>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663300"/>
                </a:gs>
                <a:gs pos="100000">
                  <a:srgbClr val="82582e"/>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82582e"/>
                </a:gs>
                <a:gs pos="100000">
                  <a:srgbClr val="66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2582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4C0E-2046-4319-9323-E953C1240D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2582e"/>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663300"/>
                </a:gs>
                <a:gs pos="100000">
                  <a:srgbClr val="82582e"/>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82582e"/>
                </a:gs>
                <a:gs pos="100000">
                  <a:srgbClr val="66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2582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D928-482E-44C1-BA0F-B31AA9F5F5A7}"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Congress, the Presidency, and How a Bill Becomes a Law</a:t>
            </a:r>
            <a:endParaRPr b="0" lang="en-US" sz="4000" spc="-1" strike="noStrike">
              <a:solidFill>
                <a:srgbClr val="dbbd71"/>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y: Tavon Crook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What is a Presidential veto?</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means he can stop legislation from becoming law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ident's veto power is just one of the many separations of power, or "checks and balances" of the United States governme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What is a Pocket Veto?</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eto of a bill brought about by the president's failure to sign it within ten days of the adjournment of Congres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imilar action on the part of any legislative executiv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How can Congress override a presidential veto?</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S Constitution gives Congress a means to sign a bill into law after a presidential veto has occurred. In order to overturn a presidential veto, both houses in Congress must vote to approve the bill by a two-thirds majorit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Project #2</a:t>
            </a:r>
            <a:br>
              <a:rPr sz="4000"/>
            </a:br>
            <a:endParaRPr b="0" lang="en-US" sz="54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04560"/>
            <a:ext cx="7772400" cy="1555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bbd71"/>
                </a:solidFill>
                <a:latin typeface="Arial"/>
              </a:rPr>
              <a:t>What is a bill?</a:t>
            </a:r>
            <a:r>
              <a:rPr b="0" lang="en-US" sz="5400" spc="-1" strike="noStrike">
                <a:solidFill>
                  <a:srgbClr val="dbbd71"/>
                </a:solidFill>
                <a:latin typeface="Arial"/>
              </a:rPr>
              <a:t> </a:t>
            </a:r>
            <a:endParaRPr b="0" lang="en-US" sz="5400" spc="-1" strike="noStrike">
              <a:solidFill>
                <a:srgbClr val="dbbd71"/>
              </a:solidFill>
              <a:latin typeface="Arial"/>
            </a:endParaRPr>
          </a:p>
        </p:txBody>
      </p:sp>
      <p:sp>
        <p:nvSpPr>
          <p:cNvPr id="155" name="PlaceHolder 2"/>
          <p:cNvSpPr>
            <a:spLocks noGrp="1"/>
          </p:cNvSpPr>
          <p:nvPr>
            <p:ph type="subTitle"/>
          </p:nvPr>
        </p:nvSpPr>
        <p:spPr>
          <a:xfrm>
            <a:off x="0" y="2514600"/>
            <a:ext cx="5867280" cy="2209680"/>
          </a:xfrm>
          <a:prstGeom prst="rect">
            <a:avLst/>
          </a:prstGeom>
          <a:noFill/>
          <a:ln w="0">
            <a:noFill/>
          </a:ln>
        </p:spPr>
        <p:txBody>
          <a:bodyPr anchor="t">
            <a:noAutofit/>
          </a:bodyPr>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draft of a proposed law presented to parliament for discussion. </a:t>
            </a:r>
            <a:endParaRPr b="0" lang="en-US" sz="3200" spc="-1" strike="noStrike">
              <a:solidFill>
                <a:srgbClr val="ffffff"/>
              </a:solidFill>
              <a:latin typeface="Tahoma"/>
            </a:endParaRPr>
          </a:p>
        </p:txBody>
      </p:sp>
      <p:pic>
        <p:nvPicPr>
          <p:cNvPr id="156" name="Picture 5" descr="Image result for what is a bill?"/>
          <p:cNvPicPr/>
          <p:nvPr/>
        </p:nvPicPr>
        <p:blipFill>
          <a:blip r:embed="rId1"/>
          <a:stretch/>
        </p:blipFill>
        <p:spPr>
          <a:xfrm>
            <a:off x="5105520" y="1981080"/>
            <a:ext cx="403848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What is a reading of a bill?</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58"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reading is the first stage of a Bill</a:t>
            </a:r>
            <a:r>
              <a:rPr b="0" lang="ja-JP" sz="3200" spc="-1" strike="noStrike">
                <a:solidFill>
                  <a:srgbClr val="ffffff"/>
                </a:solidFill>
                <a:latin typeface="Arial"/>
              </a:rPr>
              <a:t>’</a:t>
            </a:r>
            <a:r>
              <a:rPr b="0" lang="en-US" sz="3200" spc="-1" strike="noStrike">
                <a:solidFill>
                  <a:srgbClr val="ffffff"/>
                </a:solidFill>
                <a:latin typeface="Tahoma"/>
              </a:rPr>
              <a:t>s passage through the House of Commons - usually a formality, it takes place without debat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reading of a Bill can take place at any time in a parliamentary session. </a:t>
            </a:r>
            <a:endParaRPr b="0" lang="en-US" sz="3200" spc="-1" strike="noStrike">
              <a:solidFill>
                <a:srgbClr val="ffffff"/>
              </a:solidFill>
              <a:latin typeface="Tahoma"/>
            </a:endParaRPr>
          </a:p>
        </p:txBody>
      </p:sp>
      <p:pic>
        <p:nvPicPr>
          <p:cNvPr id="159" name="Picture 5" descr="Image result for what is a reading of a bill?"/>
          <p:cNvPicPr/>
          <p:nvPr/>
        </p:nvPicPr>
        <p:blipFill>
          <a:blip r:embed="rId1"/>
          <a:stretch/>
        </p:blipFill>
        <p:spPr>
          <a:xfrm>
            <a:off x="4952880" y="1676520"/>
            <a:ext cx="419112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277560"/>
            <a:ext cx="815328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n order to a bill to be passed out of Congress, what must the House and Senate each do?</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61" name="PlaceHolder 2"/>
          <p:cNvSpPr>
            <a:spLocks noGrp="1"/>
          </p:cNvSpPr>
          <p:nvPr>
            <p:ph/>
          </p:nvPr>
        </p:nvSpPr>
        <p:spPr>
          <a:xfrm>
            <a:off x="0" y="1599840"/>
            <a:ext cx="5867280" cy="5257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ill is assigned a number. (e.g. HR 1 or S 1)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ill is labeled with the sponsor's name.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ill is sent to the Government Printing Office (GPO) and copies are made.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ate bills can be jointly sponsored.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s can cosponsor the piece of Legislation. </a:t>
            </a:r>
            <a:endParaRPr b="0" lang="en-US" sz="2800" spc="-1" strike="noStrike">
              <a:solidFill>
                <a:srgbClr val="ffffff"/>
              </a:solidFill>
              <a:latin typeface="Tahoma"/>
            </a:endParaRPr>
          </a:p>
        </p:txBody>
      </p:sp>
      <p:pic>
        <p:nvPicPr>
          <p:cNvPr id="162" name="Picture 5" descr="Image result for in order to a bill to be passed out of congress, what must the house and senate each do?"/>
          <p:cNvPicPr/>
          <p:nvPr/>
        </p:nvPicPr>
        <p:blipFill>
          <a:blip r:embed="rId1"/>
          <a:stretch/>
        </p:blipFill>
        <p:spPr>
          <a:xfrm>
            <a:off x="5943600" y="1752480"/>
            <a:ext cx="3200400" cy="510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What is a Congressional committe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64" name="PlaceHolder 2"/>
          <p:cNvSpPr>
            <a:spLocks noGrp="1"/>
          </p:cNvSpPr>
          <p:nvPr>
            <p:ph/>
          </p:nvPr>
        </p:nvSpPr>
        <p:spPr>
          <a:xfrm>
            <a:off x="0" y="1599840"/>
            <a:ext cx="5486400" cy="5257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1" lang="en-US" sz="3200" spc="-1" strike="noStrike">
                <a:solidFill>
                  <a:srgbClr val="ffffff"/>
                </a:solidFill>
                <a:latin typeface="Tahoma"/>
              </a:rPr>
              <a:t>congressional committee</a:t>
            </a:r>
            <a:r>
              <a:rPr b="0" lang="en-US" sz="3200" spc="-1" strike="noStrike">
                <a:solidFill>
                  <a:srgbClr val="ffffff"/>
                </a:solidFill>
                <a:latin typeface="Tahoma"/>
              </a:rPr>
              <a:t> is a legislative sub-organization in the United States Congress that handles a specific duty (rather than the general duties of Congress). </a:t>
            </a:r>
            <a:endParaRPr b="0" lang="en-US" sz="3200" spc="-1" strike="noStrike">
              <a:solidFill>
                <a:srgbClr val="ffffff"/>
              </a:solidFill>
              <a:latin typeface="Tahoma"/>
            </a:endParaRPr>
          </a:p>
        </p:txBody>
      </p:sp>
      <p:pic>
        <p:nvPicPr>
          <p:cNvPr id="165" name="Picture 5" descr="Image result for what is a congressional committee?"/>
          <p:cNvPicPr/>
          <p:nvPr/>
        </p:nvPicPr>
        <p:blipFill>
          <a:blip r:embed="rId1"/>
          <a:stretch/>
        </p:blipFill>
        <p:spPr>
          <a:xfrm>
            <a:off x="5486400" y="1981080"/>
            <a:ext cx="3657600" cy="487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What does a Congressional committee do?</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67" name="PlaceHolder 2"/>
          <p:cNvSpPr>
            <a:spLocks noGrp="1"/>
          </p:cNvSpPr>
          <p:nvPr>
            <p:ph/>
          </p:nvPr>
        </p:nvSpPr>
        <p:spPr>
          <a:xfrm>
            <a:off x="-360" y="1600200"/>
            <a:ext cx="571500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med services;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king, housing and urban affairs;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ge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erce, science and transportation;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ergy and natural resources;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vironment and public works;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nce; foreign relations; </a:t>
            </a:r>
            <a:endParaRPr b="0" lang="en-US" sz="2800" spc="-1" strike="noStrike">
              <a:solidFill>
                <a:srgbClr val="ffffff"/>
              </a:solidFill>
              <a:latin typeface="Tahoma"/>
            </a:endParaRPr>
          </a:p>
        </p:txBody>
      </p:sp>
      <p:sp>
        <p:nvSpPr>
          <p:cNvPr id="16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9" name="Picture 7" descr="Image result for What does a Congressional committee do?"/>
          <p:cNvPicPr/>
          <p:nvPr/>
        </p:nvPicPr>
        <p:blipFill>
          <a:blip r:embed="rId1"/>
          <a:stretch/>
        </p:blipFill>
        <p:spPr>
          <a:xfrm>
            <a:off x="5334120" y="2133720"/>
            <a:ext cx="380988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What things can a committee do to a bill?</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71" name="PlaceHolder 2"/>
          <p:cNvSpPr>
            <a:spLocks noGrp="1"/>
          </p:cNvSpPr>
          <p:nvPr>
            <p:ph/>
          </p:nvPr>
        </p:nvSpPr>
        <p:spPr>
          <a:xfrm>
            <a:off x="-360" y="1600200"/>
            <a:ext cx="7162920" cy="50292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mmittee has now written their own version of a bill, trashed others that are similar. </a:t>
            </a:r>
            <a:endParaRPr b="0" lang="en-US" sz="3200" spc="-1" strike="noStrike">
              <a:solidFill>
                <a:srgbClr val="ffffff"/>
              </a:solidFill>
              <a:latin typeface="Tahoma"/>
            </a:endParaRPr>
          </a:p>
        </p:txBody>
      </p:sp>
      <p:sp>
        <p:nvSpPr>
          <p:cNvPr id="172"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6"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7" name="AutoShape 1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8" name="AutoShape 1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480"/>
            <a:ext cx="8229600" cy="11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To pass either the House or the Senate, what kind of vote is needed? (Basically, what is a majority vot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80" name="PlaceHolder 2"/>
          <p:cNvSpPr>
            <a:spLocks noGrp="1"/>
          </p:cNvSpPr>
          <p:nvPr>
            <p:ph/>
          </p:nvPr>
        </p:nvSpPr>
        <p:spPr>
          <a:xfrm>
            <a:off x="457200" y="2362320"/>
            <a:ext cx="8229600" cy="376848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xcerpt from a legal brief filed this month in the Supreme Court by a group of constitutional law professors in a new case seeking to test the constitutionality of the current filibuster rule (Rule XXII) in the U.S. Senate, which basically requires the votes of 60 senators to pass any legislation that stirs any significant controversy.</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In the Senate, what is a filibuster?</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libuster was initially conceived of as </a:t>
            </a:r>
            <a:r>
              <a:rPr b="1" lang="en-US" sz="3200" spc="-1" strike="noStrike">
                <a:solidFill>
                  <a:srgbClr val="ffffff"/>
                </a:solidFill>
                <a:latin typeface="Tahoma"/>
              </a:rPr>
              <a:t>a way to ensure that minority opinions were heard and understood</a:t>
            </a:r>
            <a:r>
              <a:rPr b="0" lang="en-US" sz="3200" spc="-1" strike="noStrike">
                <a:solidFill>
                  <a:srgbClr val="ffffff"/>
                </a:solidFill>
                <a:latin typeface="Tahoma"/>
              </a:rPr>
              <a:t> before the Senate voted on an issue. Senate rules first allowed for filibusters in 1806, though the first filibuster actually occurred more than 30 years later, in 1837. They continued to be rare for more than another centur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2T17:08:28Z</dcterms:created>
  <dc:creator>user</dc:creator>
  <dc:description/>
  <dc:language>en-US</dc:language>
  <cp:lastModifiedBy>Mark Leavins</cp:lastModifiedBy>
  <dcterms:modified xsi:type="dcterms:W3CDTF">2015-03-15T02:49:32Z</dcterms:modified>
  <cp:revision>2</cp:revision>
  <dc:subject/>
  <dc:title>Congress, the Presidency, and How a Bill Becomes a Law</dc:title>
</cp:coreProperties>
</file>